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1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 type="sldNum" idx="1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89B0-38BA-41F0-877B-E4777055A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138B-6C2B-441B-8D68-B09546BC2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support teaching and learning activities in various content are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ED17-07FD-460E-A2C0-C5EFB2C0E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434D-5089-4529-B782-F8D3EEEF4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help teachers and students produce instructional materi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DFDB-3A90-411A-9AAD-525ACDA14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help teachers collect and organize information that indicates student prog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5550-BCF6-4922-98F1-6AAF9BDC7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allow the manipulation of images to illustrate documents and web pa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3F84-71A0-467E-B2A0-D10C5DD71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help teachers and students conceptualize, organize, and communicate their ide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5699-D8B0-40E2-8EAC-B354F0024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let students look up information in electronic versions of encyclopedias, atlases, and dictiona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D28AE-18D8-4C18-AC1B-9A2EF7D9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01F65D-59A3-4264-8435-39A5A6D9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9339DD-3A4E-4A87-BB87-1D51D42E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6875F2-B4D3-40D1-94E2-070102C4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93DD80-454D-4FCC-9862-E701ABC4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8660E-EA4A-47EC-BFF2-94E87933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B8E38C-2C48-47F7-BDE8-DBCEC840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180CDE-83E9-4FA8-8E69-81A61DFB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41F056-0279-43D1-9720-28FEFBB7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A105-077F-48A5-BA3D-650592B2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234-967C-4016-87AB-93BD01BA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B9C-067F-4E91-9B50-9D7EFD60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070-94EC-4605-939D-5B09F79E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874B-C59C-4E80-B50E-C0133597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B07-344B-45A7-84DA-E25157C6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7BC3-7379-49DB-834B-2EFC658D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0C4-8414-4B93-B179-4EC82AA7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55CC-563C-4130-979E-7CC484A8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E4B-F75A-48ED-AEEB-0FA42C25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0266-A0B5-4386-AE02-E0E6CBFF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AD9F-8DB9-4281-A224-5B9FA537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A8B7B-FFEB-4F4B-B9FA-235200F445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BAACB-3DCF-4BB9-8E7E-52E6923FD76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A73A0-34A1-49C0-A332-12A8B9518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024CA-F90D-455B-889E-BE8A1A45C16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060D7-EF77-453E-BC56-3DB8BFE13C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7912F-59BB-4C96-8603-7B34AAC9FC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F5983-45F9-47FC-A6B6-078741A613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91DFE-0205-443B-902C-07D32DCADA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61516-606F-4417-BB2A-5D77ED8DC1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09DCA-D720-4178-91FF-2BA93F6957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F77C4-9E27-4C11-A625-5DA0331954C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D7374-6C84-43EE-ABEA-9ED0C4355B0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7E8B5-D5A8-4F87-A6F9-5356D553B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83641-23B8-4070-A9FD-3ACE7DD3D86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B0FCD-772C-4349-B502-22E50FF2CFF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BAA07-338B-4DB7-ADF9-C53AB49586B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376B3-8A83-4FAC-866F-142FF545EA6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4905D-EE87-4C82-B315-9489A3642CA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3E2E3-7E41-4547-8B14-A920409BFA8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3E749-75A9-4FB0-A154-3C248A0F560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4CDFA-8435-4D7F-8BD7-0A0C0BA6A14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CBDEB-97B3-4C0E-AE0C-37FA7660A50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7BC0A-B2FD-49DB-A5B2-21843ECC7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153D7-D95C-4E18-AA33-38E188DA888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23BB-AFA1-4189-B844-0E5668FB15B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FE4C-2670-4683-9026-FBC181636B2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BF7F-B1C3-46ED-AA54-1E3BCB07DFB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F0E6-7F33-41D9-89D4-CD54D4F19FE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7114-2965-4EE7-9176-941C709E0AD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4DD7-0131-4EFF-86B0-897235AC6AD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7578-2F9B-41AD-A291-F7D266D9EFF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F144-6B96-436B-9228-70B5D7B6AC9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3A57-0D34-4B11-BB98-FE0BA106D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D1AE-6939-4C85-9E9A-1CCB6C4FD31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A725-0663-4B67-92FA-8F053D1490F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DEF9-75B1-491B-BA6B-83167D3F745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FA256-4770-4E0F-B800-013FC267706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F1E5E-CAC4-4730-9A4E-D919835F895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E1441-DC81-4247-8357-5EABB79EB30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462640-2699-47F8-A809-5FC782A0C60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F2DACC-9520-4B79-B08E-4A4BF851FCC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E3C41-2B90-4211-A7AD-C2CBEA053B0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DF442-C3B1-4EEC-B5F1-ED5092047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A669B-33E8-4E92-8B37-706493D91DD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17944-6E39-4E1D-91C2-31A5A39C1F5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33734-37C5-486F-80AD-4A90CAFC76F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2D234-FC2D-434A-8781-3476EC019E5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50943-E0C4-4927-AB54-480159637E3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5B0119-BE06-4FC8-82E9-05DCE139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C023D8-CF1F-430D-89A9-0723FC0C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AAE65C-8966-47E9-ADAF-4F0CA002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6D975-B8CD-4C2D-A4A1-9FD31DB3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9F526B-6D1A-4506-B9C3-71D45B98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98A477-5A63-4F71-8689-95F9B62B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D03922-FAFE-4709-A2B2-10B15CB1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8EF33E-0ECC-4BCD-9234-3EA5A6BD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A6F19A-CB4B-497B-AAB7-76166FD4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4A012F-BE9B-4DFF-99E6-79BBB7DF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4E8F80-6DB2-489E-AEA4-B9C66290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9864E3-D29D-4A68-8500-E32F0F13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45C3D5-4470-4FE6-8BE4-3B4A3AD8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D841E6-B886-4EE1-BE5F-7F655254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5AA5BE-A62E-4C42-AB2C-6B81BBE8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870530D1-1855-4ED8-8A66-793003DA519C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E56D-8B02-4469-8828-9210DCCC1E8A}" type="datetime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EBF2-BDDD-43D9-916C-7E6EBA5BE14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CompanionWebSite Back"/>
          <p:cNvPicPr/>
          <p:nvPr/>
        </p:nvPicPr>
        <p:blipFill>
          <a:blip r:embed="rId3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5.</a:t>
            </a:r>
            <a:fld id="{F35A5CEF-AE33-4039-A69E-1B7FB233435D}" type="slidenum"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80FD87BF-3D09-43DA-A5CB-31E87DC1FB55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57F874B8-7FE0-46FC-B5E7-1A4863E5C9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2F20199D-5592-41D9-B290-6007CBF1C155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97D2C26C-7BF8-4D68-8A77-70699CDA9E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826AD623-DA9A-4FD4-8DE4-24C97BECB21D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D703662B-B9E6-4249-8DF9-6863AEA483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C89BEE8C-6FF5-438B-9C6B-C870B3DBC0E0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UC 6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07BF4991-AF24-4026-A6C3-8901521F3E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8" descr="CompanionWebSite Back"/>
          <p:cNvPicPr/>
          <p:nvPr/>
        </p:nvPicPr>
        <p:blipFill>
          <a:blip r:embed="rId3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5.</a:t>
            </a:r>
            <a:fld id="{C253ED2B-48D5-4308-AC5F-9D1F13AB12F5}" type="slidenum"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1026" descr="CompanionWebSite Back"/>
          <p:cNvPicPr/>
          <p:nvPr/>
        </p:nvPicPr>
        <p:blipFill>
          <a:blip r:embed="rId4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9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74B0-179B-4698-BCF4-69A4A68B5AE1}" type="datetime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0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1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FC20-F449-4D0A-BDD8-E13B1A5381D5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8" descr="CompanionWebSite Back"/>
          <p:cNvPicPr/>
          <p:nvPr/>
        </p:nvPicPr>
        <p:blipFill>
          <a:blip r:embed="rId3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5.</a:t>
            </a:r>
            <a:fld id="{EFA1E984-9128-43B0-9F58-8659CA8F3A2E}" type="slidenum"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2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06B0-DD3E-488E-A1AD-501483A8C844}" type="datetime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3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4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0FF0-12C0-4C8C-9A48-C6626607525C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682560" y="1517760"/>
            <a:ext cx="7785000" cy="14810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914400" y="236232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eaching with Software Tools: Beyond the Basic Program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228600" y="47242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Box 10"/>
          <p:cNvSpPr/>
          <p:nvPr/>
        </p:nvSpPr>
        <p:spPr>
          <a:xfrm>
            <a:off x="914400" y="121932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riffonShadow"/>
              </a:rPr>
              <a:t>Technology</a:t>
            </a:r>
            <a:r>
              <a:rPr b="0" lang="en-US" sz="2400" spc="-1" strike="noStrike">
                <a:solidFill>
                  <a:srgbClr val="000000"/>
                </a:solidFill>
                <a:latin typeface="GriffonShadow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GriffonShadow"/>
              </a:rPr>
              <a:t>and Teaching in Lear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474040" cy="14396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AD system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IDI tool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usic editors &amp; sequenc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ading Tool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bewar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icrocomputer-based labs (MBL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raphing Calculators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alculator-based labs (CBL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PS and GIS system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lobal positioning and geographic information syste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1984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mproves efficiency and productiv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mproves appeara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etter accuracy and timeliness of inform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ore support for interaction and shar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37480" cy="11588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aterials generat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ata collection and analysis t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raphics t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lanning and organizing t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search and reference t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ntent-area t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0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3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Netbooks, PDAs, and cell phon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Web-connectivity featu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oftware suit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3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esktop publishing softw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est and rubric generat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Worksheets and puzzle generat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EP generat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raphic document mak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DF and forms mak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6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582040" cy="11588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lectronic gradebook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atistical packag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udent information systems (SI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mputer-based testing syste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mputer adaptive testing (CA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udent response syste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lassroom response systems or “clickers”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9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rawing and painting progra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mage editing t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harting and graphing t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igitizing &amp; Video Development Syste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lip art, animation, sound, video and font collec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2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378000" y="268200"/>
            <a:ext cx="8491320" cy="11588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Outlining tools and concept mapping softw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esson planning softw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cheduling and time management t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5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965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lectronic encyclopedia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lectronic atlases and mapping t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lectronic dictionaries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(word atlase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8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22:43:09Z</dcterms:created>
  <dc:creator>Terence W. Cavanaugh</dc:creator>
  <dc:description/>
  <dc:language>en-US</dc:language>
  <cp:lastModifiedBy>cregan</cp:lastModifiedBy>
  <dcterms:modified xsi:type="dcterms:W3CDTF">2010-03-31T15:06:36Z</dcterms:modified>
  <cp:revision>46</cp:revision>
  <dc:subject>Teaching with the Software Tools: Beyond the Basics Programs</dc:subject>
  <dc:title>Chapter 5</dc:title>
</cp:coreProperties>
</file>